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13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18.wmf" ContentType="image/x-wmf"/>
  <Override PartName="/ppt/media/image5.jpeg" ContentType="image/jpeg"/>
  <Override PartName="/ppt/media/image14.png" ContentType="image/png"/>
  <Override PartName="/ppt/media/image9.wmf" ContentType="image/x-wmf"/>
  <Override PartName="/ppt/media/image7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06E39-03B7-4891-85EB-8C0C3FDCA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4B455-D7DA-4EA0-AF29-7E021D6F1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5D2B1-0E29-4E4C-A34C-B0E1333AB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92F38-C173-44AC-94E0-24F73474D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1949C-25BB-420E-9F05-5C24BFB32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90FFE-9AAE-4755-ACE0-ED6C5DEA2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0222-403A-4CF2-B173-D8614F58A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B42DD-A1AA-4E23-844B-9EF8DECF0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148F6-AEB7-406F-BDFE-366E16758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D72B-1772-40FF-A789-0D6516A5C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4664A-44B6-48D8-9A2A-1902F9B70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CA390-BA1E-4395-A00A-2D99E49BE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da9a9"/>
                </a:solidFill>
                <a:latin typeface="Century Schoolbook"/>
              </a:rPr>
              <a:t>Click to edit the title text format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b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05120" y="763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5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Research Skills Development Un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215640" y="645120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f5f5f"/>
                </a:solidFill>
                <a:latin typeface="Arial Narrow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7D86-5B78-4D41-905C-FFC3A507BD35}" type="slidenum">
              <a:rPr b="0" lang="ar-SA" sz="1400" spc="-1" strike="noStrike">
                <a:solidFill>
                  <a:srgbClr val="5f5f5f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72480" y="76320"/>
            <a:ext cx="111924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52280" y="112680"/>
            <a:ext cx="533520" cy="4208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447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f5f5f"/>
                </a:solidFill>
                <a:latin typeface="Century Schoolbook"/>
              </a:rPr>
              <a:t>Click to edit the title text format</a:t>
            </a:r>
            <a:endParaRPr b="0" i="1" lang="en-US" sz="3200" spc="-1" strike="noStrike">
              <a:solidFill>
                <a:srgbClr val="5f5f5f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nquiringminds.org.uk/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e.jongsma@sec.gov.qa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565360"/>
            <a:ext cx="6813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Developing Student Researchers</a:t>
            </a:r>
            <a:br>
              <a:rPr sz="3200"/>
            </a:b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Part 1</a:t>
            </a:r>
            <a:endParaRPr b="0" i="1" lang="en-US" sz="3200" spc="-1" strike="noStrike">
              <a:solidFill>
                <a:srgbClr val="5f5f5f"/>
              </a:solidFill>
              <a:latin typeface="Century Schoolbook"/>
            </a:endParaRPr>
          </a:p>
        </p:txBody>
      </p:sp>
      <p:sp>
        <p:nvSpPr>
          <p:cNvPr id="85" name=""/>
          <p:cNvSpPr/>
          <p:nvPr/>
        </p:nvSpPr>
        <p:spPr>
          <a:xfrm>
            <a:off x="1655640" y="486828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Dr. Gene and Ms. Tarfa Al-Na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esearch Skills Development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ducation Instit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Workshop Schedule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4680" y="2155320"/>
            <a:ext cx="777240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Nov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ting Ideas and Motivating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Nov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ng and Shaping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Nov 3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Dec 2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zing Data; Reporting and Sharing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essions will be from 3:00 – 5:0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a9a9"/>
                </a:solidFill>
                <a:latin typeface="Century Schoolbook"/>
              </a:rPr>
              <a:t>Moving from Teacher-Centered to Student-Centered Research</a:t>
            </a:r>
            <a:endParaRPr b="0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29509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tructured Enqui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 dir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573360"/>
            <a:ext cx="338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  <a:ea typeface="Arial"/>
              </a:rPr>
              <a:t>Supported Enqui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acher and stud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uppor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6000" y="5157720"/>
            <a:ext cx="2951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  <a:ea typeface="Arial"/>
              </a:rPr>
              <a:t>Open Enqui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udent dir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coura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2421000"/>
            <a:ext cx="1440000" cy="792000"/>
          </a:xfrm>
          <a:custGeom>
            <a:avLst/>
            <a:gdLst>
              <a:gd name="textAreaLeft" fmla="*/ 252000 w 1440000"/>
              <a:gd name="textAreaRight" fmla="*/ 1044000 w 144000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086800">
            <a:off x="3634920" y="2204640"/>
            <a:ext cx="2016360" cy="647640"/>
          </a:xfrm>
          <a:custGeom>
            <a:avLst/>
            <a:gdLst>
              <a:gd name="textAreaLeft" fmla="*/ 352800 w 2016360"/>
              <a:gd name="textAreaRight" fmla="*/ 1461960 w 2016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86800">
            <a:off x="6587640" y="3933360"/>
            <a:ext cx="2016360" cy="647640"/>
          </a:xfrm>
          <a:custGeom>
            <a:avLst/>
            <a:gdLst>
              <a:gd name="textAreaLeft" fmla="*/ 352800 w 2016360"/>
              <a:gd name="textAreaRight" fmla="*/ 1461960 w 2016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What do we expect from you?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155320"/>
            <a:ext cx="77724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you will go back to your schools and try out some of the strategies and activities that we present in the workshop, and let us know what happe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8362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Where do research ideas come from?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98600" y="1628640"/>
            <a:ext cx="1841760" cy="1327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0" y="1549440"/>
            <a:ext cx="41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uld w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i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earch topic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4497480"/>
            <a:ext cx="42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uld w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ics from the stud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136980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Where do research ideas come from?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547640" y="1916280"/>
            <a:ext cx="5472360" cy="4679280"/>
            <a:chOff x="1547640" y="1916280"/>
            <a:chExt cx="5472360" cy="4679280"/>
          </a:xfrm>
        </p:grpSpPr>
        <p:sp>
          <p:nvSpPr>
            <p:cNvPr id="131" name=""/>
            <p:cNvSpPr/>
            <p:nvPr/>
          </p:nvSpPr>
          <p:spPr>
            <a:xfrm>
              <a:off x="1835280" y="1916280"/>
              <a:ext cx="2952720" cy="28810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47640" y="2698200"/>
              <a:ext cx="2519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b">
              <a:spAutoFit/>
            </a:bodyPr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rricul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1280" y="1916280"/>
              <a:ext cx="2952720" cy="288108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87640" y="3714840"/>
              <a:ext cx="2952720" cy="288072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00720" y="2698200"/>
              <a:ext cx="25192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b">
              <a:spAutoFit/>
            </a:bodyPr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cal Cul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03640" y="5157360"/>
              <a:ext cx="25192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b">
              <a:spAutoFit/>
            </a:bodyPr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a9a9"/>
                </a:solidFill>
                <a:latin typeface="Century Schoolbook"/>
              </a:rPr>
              <a:t>The Curriculum</a:t>
            </a:r>
            <a:endParaRPr b="0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0760" cy="3997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435640" y="5445000"/>
            <a:ext cx="1368360" cy="115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979640" y="5157720"/>
            <a:ext cx="4824360" cy="1446120"/>
            <a:chOff x="1979640" y="5157720"/>
            <a:chExt cx="4824360" cy="144612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1979640" y="5157720"/>
              <a:ext cx="481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35640" y="5516640"/>
              <a:ext cx="1368360" cy="1008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The Local and Regional Culture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58920" y="2606760"/>
          <a:ext cx="914400" cy="192096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187704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8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9"/>
                    </a:solidFill>
                  </a:tcPr>
                </a:tc>
              </a:tr>
              <a:tr h="185400"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inking gree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9"/>
                    </a:solidFill>
                  </a:tcPr>
                </a:tc>
              </a:tr>
            </a:tbl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531000" y="1196640"/>
            <a:ext cx="5466960" cy="3178800"/>
            <a:chOff x="531000" y="1196640"/>
            <a:chExt cx="5466960" cy="3178800"/>
          </a:xfrm>
        </p:grpSpPr>
        <p:sp>
          <p:nvSpPr>
            <p:cNvPr id="146" name=""/>
            <p:cNvSpPr/>
            <p:nvPr/>
          </p:nvSpPr>
          <p:spPr>
            <a:xfrm>
              <a:off x="681840" y="1196640"/>
              <a:ext cx="5316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Green issues to top agenda at finance meetin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 posted at: 10/26/2008 4:40:23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 ::: The Peninsul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1000" y="4007160"/>
              <a:ext cx="34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HA • 'Green Economy' will take centre stage at the upcom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ha Global Conference on Financing for Development 2008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809280" y="2205000"/>
              <a:ext cx="2467080" cy="16653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49" name=""/>
          <p:cNvGraphicFramePr/>
          <p:nvPr/>
        </p:nvGraphicFramePr>
        <p:xfrm>
          <a:off x="4067280" y="4797360"/>
          <a:ext cx="4749840" cy="1914480"/>
        </p:xfrm>
        <a:graphic>
          <a:graphicData uri="http://schemas.openxmlformats.org/drawingml/2006/table">
            <a:tbl>
              <a:tblPr/>
              <a:tblGrid>
                <a:gridCol w="1582560"/>
                <a:gridCol w="650880"/>
                <a:gridCol w="2516400"/>
              </a:tblGrid>
              <a:tr h="191448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dd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HE NATION|ENVIRO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  <a:ea typeface="Arial"/>
                        </a:rPr>
                        <a:t>Reinforcement measures around Dubai's coastline should be taken to avoid any damage from rising sea levels caused by climate chang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140360" y="4941720"/>
            <a:ext cx="1944360" cy="1474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4202280" y="1828800"/>
            <a:ext cx="95040" cy="95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067280" y="4288320"/>
            <a:ext cx="48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imate Change Could Affect Dubai Coastline Rad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The Students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27092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sues or topics are students interested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84720" y="3141720"/>
            <a:ext cx="145116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a9a9"/>
                </a:solidFill>
                <a:latin typeface="Century Schoolbook"/>
              </a:rPr>
              <a:t>Strategies for Getting Ideas from Students</a:t>
            </a:r>
            <a:endParaRPr b="0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38098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408ae"/>
                </a:solidFill>
                <a:latin typeface="Arial"/>
              </a:rPr>
              <a:t>Desert Island Obje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1960560"/>
            <a:ext cx="3657600" cy="2425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00720" y="1356120"/>
            <a:ext cx="44640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ou are getting sent to this desert isla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ou can only take six items with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hey can be practical items to help you surv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hey can be items that remind you of what you are leaving behi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4588560"/>
            <a:ext cx="8208720" cy="1936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ork in small groups discussing your reas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ork with whole class to list all of the items and discuss similarities and differ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nd goal:  What’s important to students. How can this information be used to start a research projec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a9a9"/>
                </a:solidFill>
                <a:latin typeface="Century Schoolbook"/>
              </a:rPr>
              <a:t>Strategies for Getting Ideas from Students</a:t>
            </a:r>
            <a:endParaRPr b="0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381024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408ae"/>
                </a:solidFill>
                <a:latin typeface="Arial"/>
              </a:rPr>
              <a:t>Future Autobiograph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00720" y="860760"/>
            <a:ext cx="4103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rovide photos of seniors in the community – a family member or famous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rite a group autobiography about this person.  What was their live like? What experiences did they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4893480"/>
            <a:ext cx="8208720" cy="163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retend the year is 2050.  You are 60 years ol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rite your life story.  What did you do? What did you accomplis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his activity can give you insights into what students value and what they want to achie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Goals of this Workshop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gain a broader understanding of student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learn specific strategies for initiating student research, for shaping and refining research ideas, for collecting and analyzing data, and for reporting and sharing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become acquainted with digital tools and resources that can enhance the teaching of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a9a9"/>
                </a:solidFill>
                <a:latin typeface="Century Schoolbook"/>
              </a:rPr>
              <a:t>Strategies for Getting Ideas from Students</a:t>
            </a:r>
            <a:endParaRPr b="0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17290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Arial"/>
              </a:rPr>
              <a:t>Data R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1502280"/>
            <a:ext cx="410364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me up with a group qu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How many bottles of water are consumed in Doha each da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How many new cars are added to the highways in Qatar each ye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How quickly can we find 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4501080"/>
            <a:ext cx="8208720" cy="2241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eacher decides how much help to give (e.g., suggesting sources of information, where to lo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urn students loose. Give an award to the student who can find the information first, and explain how he/she got the infor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Use this activity to raise questions about the accuracy and sources of information. How can this be redirected into a research activ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3829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For more ideas . . .</a:t>
            </a:r>
            <a:r>
              <a:rPr b="0" i="1" lang="en-US" sz="3200" spc="-1" strike="noStrike">
                <a:solidFill>
                  <a:srgbClr val="0da9a9"/>
                </a:solidFill>
                <a:latin typeface="Century Schoolbook"/>
              </a:rPr>
              <a:t> 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53262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Enquiring Minds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enquiringminds.org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692360" y="2970360"/>
            <a:ext cx="583236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a9a9"/>
                </a:solidFill>
                <a:latin typeface="Century Schoolbook"/>
              </a:rPr>
              <a:t>What traits must students have to be successful in research?</a:t>
            </a:r>
            <a:endParaRPr b="0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74872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io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ask goo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pticism. . . don’t believe everything you read, see, or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al . . . play by the ru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think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da9a9"/>
                </a:solidFill>
                <a:latin typeface="Century Schoolbook"/>
              </a:rPr>
              <a:t>Thank you for listening!</a:t>
            </a:r>
            <a:br>
              <a:rPr sz="2800"/>
            </a:br>
            <a:br>
              <a:rPr sz="2800"/>
            </a:br>
            <a:r>
              <a:rPr b="1" i="1" lang="en-GB" sz="2800" spc="-1" strike="noStrike">
                <a:solidFill>
                  <a:srgbClr val="0da9a9"/>
                </a:solidFill>
                <a:latin typeface="Century Schoolbook"/>
              </a:rPr>
              <a:t>If you have questions about research</a:t>
            </a:r>
            <a:br>
              <a:rPr sz="2800"/>
            </a:br>
            <a:r>
              <a:rPr b="1" i="1" lang="en-GB" sz="2800" spc="-1" strike="noStrike">
                <a:solidFill>
                  <a:srgbClr val="0da9a9"/>
                </a:solidFill>
                <a:latin typeface="Century Schoolbook"/>
              </a:rPr>
              <a:t>or need additional information,</a:t>
            </a:r>
            <a:br>
              <a:rPr sz="2800"/>
            </a:br>
            <a:r>
              <a:rPr b="1" i="1" lang="en-GB" sz="2800" spc="-1" strike="noStrike">
                <a:solidFill>
                  <a:srgbClr val="0da9a9"/>
                </a:solidFill>
                <a:latin typeface="Century Schoolbook"/>
              </a:rPr>
              <a:t>feel free to contact me.</a:t>
            </a:r>
            <a:endParaRPr b="0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55640" y="364464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. 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.jongsma@sec.gov.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ffice Phone:  456-01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Mobile:  681-39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a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.alnuimi@sec.gov.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ffice Pone: 456-0l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da9a9"/>
                </a:solidFill>
                <a:latin typeface="Century Schoolbook"/>
              </a:rPr>
              <a:t>What is research?</a:t>
            </a:r>
            <a:endParaRPr b="0" i="1" lang="en-US" sz="48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09800" y="2143080"/>
            <a:ext cx="35244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da9a9"/>
                </a:solidFill>
                <a:latin typeface="Century Schoolbook"/>
              </a:rPr>
              <a:t>What is Research?</a:t>
            </a:r>
            <a:endParaRPr b="0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791856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esearch is</a:t>
            </a:r>
            <a:r>
              <a:rPr b="0" i="1" lang="en-GB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iligent and systematic inquiry or investigation into a subject in order to discover or revise facts, theories, applications. . 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ww.dictionary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535644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Verdana"/>
              </a:rPr>
              <a:t>Creating new knowled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a9a9"/>
                </a:solidFill>
                <a:latin typeface="Century Schoolbook"/>
              </a:rPr>
              <a:t>What is research?</a:t>
            </a:r>
            <a:endParaRPr b="0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262160"/>
            <a:ext cx="806436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lgun Gothic"/>
              </a:rPr>
              <a:t>Paper Research/Library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algun Gothic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  Given a topic, search for information on that topic and summarize what you f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algun Gothic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  Write a report on global war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algun Gothic"/>
              </a:rPr>
              <a:t>Advantages:</a:t>
            </a: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 Teaches student how to search for information, how to evaluate information (ICT Literacy), and how to summarize and synthesiz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algun Gothic"/>
              </a:rPr>
              <a:t>Disadvantages:</a:t>
            </a: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  Students copy information or knowledge rather than creat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a9a9"/>
                </a:solidFill>
                <a:latin typeface="Century Schoolbook"/>
              </a:rPr>
              <a:t>What is research?</a:t>
            </a:r>
            <a:endParaRPr b="0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523880"/>
            <a:ext cx="80643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lgun Gothic"/>
              </a:rPr>
              <a:t>Scientific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algun Gothic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  Given a topic or question, systematically investigate that topic to discover new information, facts, or princi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algun Gothic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  What do secondary students think about having to do community serv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algun Gothic"/>
              </a:rPr>
              <a:t>Advantages:</a:t>
            </a: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 Teaches students how to create new knowledge; empowers them to study issues that are important to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algun Gothic"/>
              </a:rPr>
              <a:t>Disadvantages:</a:t>
            </a: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  Takes a lot of one-on-one or small group instruction; and not all students are inter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20755200">
            <a:off x="324000" y="1209240"/>
            <a:ext cx="4465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Comic Sans MS"/>
              </a:rPr>
              <a:t>Who is responsible for teaching research?</a:t>
            </a:r>
            <a:endParaRPr b="0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8" name=""/>
          <p:cNvSpPr/>
          <p:nvPr/>
        </p:nvSpPr>
        <p:spPr>
          <a:xfrm rot="702600">
            <a:off x="4070520" y="1856880"/>
            <a:ext cx="5181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7df8d"/>
                </a:solidFill>
                <a:latin typeface="Comic Sans MS"/>
              </a:rPr>
              <a:t>What research skills should be taught at each grade? (7-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20891400">
            <a:off x="395280" y="3428640"/>
            <a:ext cx="4392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c554a"/>
                </a:solidFill>
                <a:latin typeface="Century Schoolbook"/>
              </a:rPr>
              <a:t>Should all students be expected to do resear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5241960"/>
            <a:ext cx="799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A school-wide research model may help answer thes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771560" y="77760"/>
          <a:ext cx="5599080" cy="670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77760"/>
                    <a:ext cx="5599080" cy="67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76360" y="3447720"/>
            <a:ext cx="259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a9a9"/>
                </a:solidFill>
                <a:latin typeface="Century Schoolbook"/>
              </a:rPr>
              <a:t>Enquiry Cycle</a:t>
            </a:r>
            <a:endParaRPr b="0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4" name=""/>
          <p:cNvSpPr/>
          <p:nvPr/>
        </p:nvSpPr>
        <p:spPr>
          <a:xfrm>
            <a:off x="2987640" y="1916280"/>
            <a:ext cx="3168720" cy="1008000"/>
          </a:xfrm>
          <a:custGeom>
            <a:avLst/>
            <a:gdLst>
              <a:gd name="textAreaLeft" fmla="*/ 554400 w 3168720"/>
              <a:gd name="textAreaRight" fmla="*/ 2297520 w 316872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2276640"/>
            <a:ext cx="2016000" cy="43164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35640" y="2997360"/>
            <a:ext cx="863640" cy="1584000"/>
          </a:xfrm>
          <a:custGeom>
            <a:avLst/>
            <a:gdLst>
              <a:gd name="textAreaLeft" fmla="*/ 115560 w 863640"/>
              <a:gd name="textAreaRight" fmla="*/ 748080 w 863640"/>
              <a:gd name="textAreaTop" fmla="*/ 277200 h 1584000"/>
              <a:gd name="textAreaBottom" fmla="*/ 114840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348000" y="4725360"/>
            <a:ext cx="2016000" cy="43164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99640" y="2851920"/>
            <a:ext cx="863640" cy="1584360"/>
          </a:xfrm>
          <a:custGeom>
            <a:avLst/>
            <a:gdLst>
              <a:gd name="textAreaLeft" fmla="*/ 115560 w 863640"/>
              <a:gd name="textAreaRight" fmla="*/ 748080 w 8636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1668600"/>
            <a:ext cx="58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Getting Ideas and Motivating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43708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Collecting and Analyz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3051360"/>
            <a:ext cx="24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Defin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haping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30751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Report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haring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20:40:46Z</dcterms:created>
  <dc:creator>Katie Swanson</dc:creator>
  <dc:description/>
  <dc:language>en-US</dc:language>
  <cp:lastModifiedBy>t.alnuimi</cp:lastModifiedBy>
  <cp:lastPrinted>2003-12-19T17:34:29Z</cp:lastPrinted>
  <dcterms:modified xsi:type="dcterms:W3CDTF">2009-01-05T07:54:16Z</dcterms:modified>
  <cp:revision>33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02460821</vt:r8>
  </property>
  <property fmtid="{D5CDD505-2E9C-101B-9397-08002B2CF9AE}" pid="3" name="_AuthorEmail">
    <vt:lpwstr>rsami@sec.gov.qa</vt:lpwstr>
  </property>
  <property fmtid="{D5CDD505-2E9C-101B-9397-08002B2CF9AE}" pid="4" name="_AuthorEmailDisplayName">
    <vt:lpwstr>Rawya Sami</vt:lpwstr>
  </property>
  <property fmtid="{D5CDD505-2E9C-101B-9397-08002B2CF9AE}" pid="5" name="_EmailSubject">
    <vt:lpwstr>Plz repalce the already existing file </vt:lpwstr>
  </property>
  <property fmtid="{D5CDD505-2E9C-101B-9397-08002B2CF9AE}" pid="6" name="_PreviousAdHocReviewCycleID">
    <vt:r8>1902460821</vt:r8>
  </property>
  <property fmtid="{D5CDD505-2E9C-101B-9397-08002B2CF9AE}" pid="7" name="_ReviewingToolsShownOnce">
    <vt:lpwstr/>
  </property>
</Properties>
</file>